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8BDE-5344-4AA2-B05F-8E16C77D7042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 - Introduc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ppl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.25 KLF wind load to each girder (one load case for each direction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0 PSF live load over entire 60 ft x 25 ft plan area of th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0 PSF dead load to each in-fill beam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structure to include self weight of all structural members in DL loading condition for following load cases and combin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on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+ 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+ LL + WL (North Direc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ame Member Siz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columns are W27x194 members. The web is oriented running North / South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Girders running North / South (the 25 foot span) are W24x68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Girders running East / West (the 30 foot span) are W21x44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-fill beams are W16x36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angle braces are double angles, L8x8x¾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horizontal bracing members are WT6x11 structural tee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dded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main members are made from A572 Grade 50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connection material is made from A36 material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gle braces are made from A36 material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bolts are to be A325 ¾" or 1"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steel will be painted using a Zinc-rich paint.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390680" y="179712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51400" y="179712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9068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6956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90680" y="185904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1484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7556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1484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7842240" y="169560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552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14840" y="185904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68040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390636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713232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121392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4384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76640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134892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4928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49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430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7952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4928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9212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14000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430280" y="299844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4928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9520" y="29894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4928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9212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4000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9212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89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9068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390680" y="279072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57488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524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5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4656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6054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52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61628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62600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465624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5240" y="299880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05480" y="29894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752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16280" y="29894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62600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1628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1340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7800480" y="279072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800840" y="300348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0084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788040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829640" y="279576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00840" y="279576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224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785016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88040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80084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829640" y="2989440"/>
            <a:ext cx="9360" cy="9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800840" y="299880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84224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785016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842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83900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1484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7842240" y="305604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461448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461484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45412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467080" y="279576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336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49696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336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454120" y="291924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67080" y="291924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4336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496960" y="292716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336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247608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3600" y="293364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6708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47608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433600" y="27907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638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29080" y="279576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54168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5082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357192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082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29080" y="291924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41680" y="291924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5082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7192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5082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355104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08200" y="293364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41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355104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3507840" y="27907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3844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800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92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6595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7214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595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8008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692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6595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7214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6595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7006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6595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692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57006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56595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8800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54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6764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341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67960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341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54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6764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7341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7960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341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67752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7341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7676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67752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67341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6260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2280000">
            <a:off x="47602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2280000">
            <a:off x="15346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rot="19320000">
            <a:off x="14194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19320000">
            <a:off x="46450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ntion of the Case Stud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ase Study is intended as practical, simple problem that will serve as the theme for the entire workshop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should help you relate everything you learn during this workshop to your translator developmen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y participating in the Workshop Sessions based on the Case Study exercise, you will become familiar with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bjectives of the Case Stud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nable you to identify limitations of your applic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assess the scope of data you may need to exchange to satisfy the needs of end-user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te - end-users may be exchanging data at any point in the supply chai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320" y="878040"/>
            <a:ext cx="90043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s of Recor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 Holland (Lead Engineer)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even Hamburg (Assistant Engine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ing Consulting Compa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mburg Consulting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abricat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axton &amp; Vierling Ste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rchit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rlos Aguera Aesthetics, LL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wn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atson, Crowley, Hamburg &amp; Holland Enterprises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urpose of 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support two coffee extractors for a food &amp; beverage fac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ami, F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Wind cond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ust be designed for 100-year hurrican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eometry of the Fram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frame consists of a single story, one bay in width by two bays in length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distance from the bottom of the base plate to the top of the beam flanges (T.O.S) is 25 fe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length of the structure runs East / West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single width of the structure runs North / South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width of the structure is 25 feet (centre-to-centre of girders)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length of the structure consists of two bays, each 30 feet in length (centre-to-centre of girders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re are two in-fill beams in each bay running North / South. These in-fill beams are located at 10 feet on centr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rac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orizontal cross brac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to be used in both bays using structural tees with stem pointing downw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horizontal bracing in the western-most bay will start at the Southwest corner and run to the north-eastern corner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horizontal bracing in the eastern-most bay will start at the Northwest corner and run to the south-eastern corner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Vert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"X" braced using double angl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work points for the bracing is the gravity axis of all connected elements except the angle bracing. The work line will be the angles' gage lin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nection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ach 25 foot spanning bay (girder running North / South) makes a rigid connection to the supporting column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beam end connection is designed to fully develop the member's capacity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brace end connections will be designed to develop ½ of the member's axial capacity or as required by the applied load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nection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horizontal bracing members are to be bolted to the in-fill beams as they run under the in-fill beams using filler plates as necessary.  The horizontal bracing members are connected to the in-fill beams framing at the column locations with ½" thick gusset plates and (4) four A325 ¾" bolt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in-fill beams' end connections are to be designed to develop ½ of the member's allowable bending capacity. The connections shall consist of using shear tab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column bases will not be designed to transfer any moment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9:28:51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9:11Z</dcterms:modified>
  <cp:revision>3</cp:revision>
  <dc:subject/>
  <dc:title>CIS/2 Implementation Workshop III,  3-7 April 2000, Ascot</dc:title>
</cp:coreProperties>
</file>